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0A0-332A-4F3D-BA42-C874F562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4A1-7C87-464A-815F-D4C8BF4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BC3-86EE-43C3-94CD-89346D8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126-7910-4A41-AAFF-F7523EC0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BC7-8A3E-4DF6-96F2-FC3D3A68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6313-3CC0-4BCE-939D-93D3814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A1A5-1507-4750-8A81-B1CCD4E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5499-1105-473C-A54A-8884EDB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986-C1B3-4CD0-9EA4-505DA69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F63-F09D-4C10-86F3-1A7E7A57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1F1-917B-4A87-81E0-8686046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CDE-D891-4185-A830-30B7047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9FA0-790C-46AB-8EB9-B9AE6B5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238-15AD-4809-9449-8F32C24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D42-257C-4C4A-B9EE-FD91DE9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F19-D7D0-461F-A247-4FE2869C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20DF-032F-4251-A42C-C94A824F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479-F332-4364-83CE-CD06D4F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BEE-1E0A-4DB7-9F3F-03ECC042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55C-2E91-4436-925A-9037BF4A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659-280D-450C-B63C-65A1AD5D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0BA-AB29-49BF-A1F2-48C62BB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7B8-D5D7-45D3-8AB6-150C16D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939-A5A5-4A9D-B747-59E04A1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B7B5-9D03-49B4-9AD4-946D68E338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D62F-1BC8-49B4-B51B-82E91DAA88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tivation and 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tivational Researc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Some Recent Thoughts about Money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asons are the single most important reason that people work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60% is composed of other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co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%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%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546880" y="1243080"/>
          <a:ext cx="32842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6880" y="1243080"/>
                    <a:ext cx="32842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do Workers Want From Their Job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from worker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ervisors wants compared to Workers wa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and growth with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loyalty to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tful discip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ppreciation for work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etic understanding of pers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ing “in” on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ppreciation for work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ing “in” on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etic understanding of pers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and growth with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loyalty to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tful discip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do Workers Want?—Other Findi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continue to show the importance for managers to assess the needs of their employees and to be sensitive to these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ories of Behavi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Orient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u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Need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Mot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tegories of Activ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Directe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a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st need at a given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ength of the need tends to decrease as one engages i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tives, Goals, and Activ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10120" y="2348280"/>
            <a:ext cx="4856400" cy="3745800"/>
            <a:chOff x="3210120" y="2348280"/>
            <a:chExt cx="4856400" cy="3745800"/>
          </a:xfrm>
        </p:grpSpPr>
        <p:cxnSp>
          <p:nvCxnSpPr>
            <p:cNvPr id="95" name="_s11287"/>
            <p:cNvCxnSpPr>
              <a:stCxn id="96" idx="0"/>
              <a:endCxn id="97" idx="2"/>
            </p:cNvCxnSpPr>
            <p:nvPr/>
          </p:nvCxnSpPr>
          <p:spPr>
            <a:xfrm flipH="1" flipV="1" rot="5400000">
              <a:off x="3832560" y="5543640"/>
              <a:ext cx="221040" cy="216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1284"/>
            <p:cNvCxnSpPr>
              <a:stCxn id="99" idx="1"/>
              <a:endCxn id="100" idx="2"/>
            </p:cNvCxnSpPr>
            <p:nvPr/>
          </p:nvCxnSpPr>
          <p:spPr>
            <a:xfrm rot="10800000">
              <a:off x="6370560" y="4109760"/>
              <a:ext cx="242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1280"/>
            <p:cNvCxnSpPr>
              <a:stCxn id="100" idx="0"/>
              <a:endCxn id="102" idx="2"/>
            </p:cNvCxnSpPr>
            <p:nvPr/>
          </p:nvCxnSpPr>
          <p:spPr>
            <a:xfrm flipH="1" flipV="1" rot="5400000">
              <a:off x="6501240" y="3319920"/>
              <a:ext cx="221040" cy="481680"/>
            </a:xfrm>
            <a:prstGeom prst="bentConnector3">
              <a:avLst>
                <a:gd name="adj1" fmla="val 49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1278"/>
            <p:cNvCxnSpPr>
              <a:stCxn id="97" idx="3"/>
              <a:endCxn id="104" idx="2"/>
            </p:cNvCxnSpPr>
            <p:nvPr/>
          </p:nvCxnSpPr>
          <p:spPr>
            <a:xfrm flipV="1">
              <a:off x="4668840" y="2788920"/>
              <a:ext cx="728640" cy="242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1277"/>
            <p:cNvCxnSpPr>
              <a:stCxn id="102" idx="1"/>
              <a:endCxn id="104" idx="2"/>
            </p:cNvCxnSpPr>
            <p:nvPr/>
          </p:nvCxnSpPr>
          <p:spPr>
            <a:xfrm rot="10800000">
              <a:off x="5396400" y="2788560"/>
              <a:ext cx="728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1276"/>
            <p:cNvCxnSpPr>
              <a:stCxn id="107" idx="3"/>
              <a:endCxn id="104" idx="2"/>
            </p:cNvCxnSpPr>
            <p:nvPr/>
          </p:nvCxnSpPr>
          <p:spPr>
            <a:xfrm flipV="1">
              <a:off x="4668840" y="2788920"/>
              <a:ext cx="72864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1272"/>
            <p:cNvSpPr/>
            <p:nvPr/>
          </p:nvSpPr>
          <p:spPr>
            <a:xfrm>
              <a:off x="4670640" y="234828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273"/>
            <p:cNvSpPr/>
            <p:nvPr/>
          </p:nvSpPr>
          <p:spPr>
            <a:xfrm>
              <a:off x="3215520" y="30096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1274"/>
            <p:cNvSpPr/>
            <p:nvPr/>
          </p:nvSpPr>
          <p:spPr>
            <a:xfrm>
              <a:off x="6125400" y="30096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1275"/>
            <p:cNvSpPr/>
            <p:nvPr/>
          </p:nvSpPr>
          <p:spPr>
            <a:xfrm>
              <a:off x="3215520" y="499356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1279"/>
            <p:cNvSpPr/>
            <p:nvPr/>
          </p:nvSpPr>
          <p:spPr>
            <a:xfrm>
              <a:off x="5639400" y="3670920"/>
              <a:ext cx="1463040" cy="43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-Directed Behav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1283"/>
            <p:cNvSpPr/>
            <p:nvPr/>
          </p:nvSpPr>
          <p:spPr>
            <a:xfrm>
              <a:off x="6613200" y="4330800"/>
              <a:ext cx="1453320" cy="440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 Ac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1286"/>
            <p:cNvSpPr/>
            <p:nvPr/>
          </p:nvSpPr>
          <p:spPr>
            <a:xfrm>
              <a:off x="3210120" y="5654880"/>
              <a:ext cx="1463400" cy="43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al-Directed Ac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ectancy Theo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relationship between effort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relationship between good performance and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livery or achievement of valued outcomes or rewards, intrinsic, extrinsic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vailabili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directly to past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 can either be actual or vic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is an environment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ity Develop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dividuals mature, they develop habit patterns, or conditioned responses, various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se habit patterns, as perceived by others, determines their pers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erarchy of Need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ological – food, clothing, and sh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(security)- need for self-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(affiliation)- need to belong to and be accepted by vari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(recognition) – recognition and respect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ctualization – the need to maximize one’s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derfer’s ERG Theo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vised realigned version of Maslow’s hierarchy of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1:08:31Z</dcterms:created>
  <dc:creator> </dc:creator>
  <dc:description/>
  <dc:language>en-US</dc:language>
  <cp:lastModifiedBy>AEURY</cp:lastModifiedBy>
  <dcterms:modified xsi:type="dcterms:W3CDTF">2006-09-05T16:49:10Z</dcterms:modified>
  <cp:revision>5</cp:revision>
  <dc:subject/>
  <dc:title>Motivation and Behavior</dc:title>
</cp:coreProperties>
</file>